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52A-5497-4E4F-A114-08E0F54F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7C6-2903-4868-BFF5-0F456FF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8C5-7B96-4F85-BB96-1A8E8867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58E-B0E7-4E89-A66A-87C33C19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B31-8114-42A0-90C5-368CFDC0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D4C-980F-477E-A6C2-A6E5F79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F03-0EE3-41CE-8B5D-1636362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A42-4EFA-495C-A503-538CE3C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0C5-C8FD-4EB4-A1DD-2FD4BE3E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751-429B-40A0-84A0-4CD0AD3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D8B-899F-46F0-9099-CA87240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5A6-9674-4DCD-9C26-AF81825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27D0-78B2-414F-ACD7-819DAC6E3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ron_group" TargetMode="External"/><Relationship Id="rId2" Type="http://schemas.openxmlformats.org/officeDocument/2006/relationships/hyperlink" Target="http://en.wikipedia.org/wiki/Carbon_group" TargetMode="External"/><Relationship Id="rId3" Type="http://schemas.openxmlformats.org/officeDocument/2006/relationships/hyperlink" Target="http://en.wikipedia.org/wiki/Pnictogen" TargetMode="External"/><Relationship Id="rId4" Type="http://schemas.openxmlformats.org/officeDocument/2006/relationships/hyperlink" Target="http://en.wikipedia.org/wiki/Chalcogen" TargetMode="External"/><Relationship Id="rId5" Type="http://schemas.openxmlformats.org/officeDocument/2006/relationships/hyperlink" Target="http://en.wikipedia.org/wiki/Halogen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191360" cy="47149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752480" y="2209680"/>
            <a:ext cx="38124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962520"/>
            <a:ext cx="6781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Group or Representative Group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91360" cy="471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3429000"/>
            <a:ext cx="37339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7242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029200"/>
            <a:ext cx="5715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905120"/>
            <a:ext cx="3200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9136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800" y="1519200"/>
            <a:ext cx="9903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9400" y="1595520"/>
            <a:ext cx="2590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7760" y="167148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4480" y="1976400"/>
            <a:ext cx="457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352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4864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ner 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, Metalloids, and Non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296200" cy="444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95680" y="236232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1295280"/>
            <a:ext cx="7923960" cy="5257440"/>
            <a:chOff x="762120" y="1295280"/>
            <a:chExt cx="7923960" cy="52574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7872120" cy="525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845640" y="1550160"/>
              <a:ext cx="7840440" cy="3058560"/>
              <a:chOff x="845640" y="1550160"/>
              <a:chExt cx="7840440" cy="3058560"/>
            </a:xfrm>
          </p:grpSpPr>
          <p:sp>
            <p:nvSpPr>
              <p:cNvPr id="69" name=""/>
              <p:cNvSpPr/>
              <p:nvPr/>
            </p:nvSpPr>
            <p:spPr>
              <a:xfrm>
                <a:off x="5850000" y="1550160"/>
                <a:ext cx="2585520" cy="110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0760" y="2485080"/>
                <a:ext cx="2251800" cy="59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0760" y="3079440"/>
                <a:ext cx="208512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767640" y="3589200"/>
                <a:ext cx="175140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84880" y="4098960"/>
                <a:ext cx="150120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5640" y="1550160"/>
                <a:ext cx="583920" cy="59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1905120" y="1600200"/>
            <a:ext cx="3657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6324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Transition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670800">
            <a:off x="717120" y="1188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565200">
            <a:off x="1098000" y="883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754200">
            <a:off x="6203520" y="24069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loid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emimeta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95680" y="2133720"/>
          <a:ext cx="3657600" cy="2768400"/>
        </p:xfrm>
        <a:graphic>
          <a:graphicData uri="http://schemas.openxmlformats.org/drawingml/2006/table">
            <a:tbl>
              <a:tblPr/>
              <a:tblGrid>
                <a:gridCol w="768240"/>
                <a:gridCol w="792360"/>
                <a:gridCol w="776160"/>
                <a:gridCol w="692280"/>
                <a:gridCol w="62856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ar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Oxy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Fluor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lumi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hospho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ulf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hlor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Gall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e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ele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rom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n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mo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lu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od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hall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L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ism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o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stat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33520" y="251460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loids contain physical and chemical properties of both metals and non-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464832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514600"/>
            <a:ext cx="3808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048120"/>
            <a:ext cx="3808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505320"/>
            <a:ext cx="3812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886200"/>
            <a:ext cx="380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181480"/>
            <a:ext cx="7617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514600"/>
            <a:ext cx="76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290400">
            <a:off x="6737040" y="156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364800">
            <a:off x="7329240" y="123048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752480"/>
            <a:ext cx="33526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640" y="342252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s are generally gases or brittle, dull-looking solids.  They are poor conductors of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95920" y="2324160"/>
            <a:ext cx="2359080" cy="337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91280" y="4324320"/>
            <a:ext cx="822240" cy="17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19560" y="3422520"/>
            <a:ext cx="1086120" cy="22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00920" y="3878280"/>
            <a:ext cx="496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11960" y="2820960"/>
            <a:ext cx="2491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33920" y="2048040"/>
            <a:ext cx="113508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390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3352680"/>
            <a:ext cx="381240" cy="749520"/>
            <a:chOff x="609480" y="3352680"/>
            <a:chExt cx="381240" cy="749520"/>
          </a:xfrm>
        </p:grpSpPr>
        <p:sp>
          <p:nvSpPr>
            <p:cNvPr id="110" name=""/>
            <p:cNvSpPr/>
            <p:nvPr/>
          </p:nvSpPr>
          <p:spPr>
            <a:xfrm>
              <a:off x="609480" y="3733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3352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52480" y="3352680"/>
            <a:ext cx="381240" cy="1434960"/>
            <a:chOff x="1752480" y="3352680"/>
            <a:chExt cx="381240" cy="1434960"/>
          </a:xfrm>
        </p:grpSpPr>
        <p:sp>
          <p:nvSpPr>
            <p:cNvPr id="113" name=""/>
            <p:cNvSpPr/>
            <p:nvPr/>
          </p:nvSpPr>
          <p:spPr>
            <a:xfrm>
              <a:off x="1752480" y="4038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2480" y="44193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3352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3657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5120" y="5029200"/>
            <a:ext cx="380880" cy="749520"/>
            <a:chOff x="1905120" y="5029200"/>
            <a:chExt cx="380880" cy="749520"/>
          </a:xfrm>
        </p:grpSpPr>
        <p:sp>
          <p:nvSpPr>
            <p:cNvPr id="118" name=""/>
            <p:cNvSpPr/>
            <p:nvPr/>
          </p:nvSpPr>
          <p:spPr>
            <a:xfrm>
              <a:off x="1905120" y="5410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5029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256760" y="1562040"/>
            <a:ext cx="381240" cy="762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6324120" y="91404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447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341520" y="1218960"/>
            <a:ext cx="533520" cy="3581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36232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572000" y="3581280"/>
            <a:ext cx="533520" cy="5105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64911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2:58:10Z</dcterms:created>
  <dc:creator>Dawn Pav</dc:creator>
  <dc:description/>
  <dc:language>en-US</dc:language>
  <cp:lastModifiedBy>Dawn Pav</cp:lastModifiedBy>
  <dcterms:modified xsi:type="dcterms:W3CDTF">2010-11-24T22:59:36Z</dcterms:modified>
  <cp:revision>1</cp:revision>
  <dc:subject/>
  <dc:title>Slide 1</dc:title>
</cp:coreProperties>
</file>